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4A7-FB42-4D5F-90CC-083CB870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910-A0F0-40A0-9803-F2E9BA57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268-A017-4694-A98A-ED76F170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A5F-0B7C-45D1-B7B9-D6EC86E7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815-E9C6-483B-95BC-FB5109D7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80F-313F-4974-BED5-7628062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F4D-3ED8-4053-8BF6-A90C3636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E22-57D7-49AA-936D-25A38A67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CAC-9A3D-48B5-BC7B-2D19FE57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EFC-3BDD-4A3E-AC37-4849EB6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932-CBC6-4A68-807C-474B9E8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A17-6551-4511-A50D-96EF135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8DD-4D7A-466A-A1E9-D553B581DF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Arial Narrow"/>
              </a:rPr>
              <a:t>مهارات الكتابة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أ. محمد الحري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الفصل الراب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إعداد المذكرات الإدراية</a:t>
            </a:r>
            <a:br>
              <a:rPr sz="3200"/>
            </a:b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ومحاضر الاج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3733920" y="658800"/>
            <a:ext cx="2095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الفصل الرابع: إعداد المذكرات الإدراية ومحاضر الاج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17375e"/>
                </a:solidFill>
                <a:latin typeface="Arial Narrow"/>
              </a:rPr>
              <a:t>محاضر الاجتماع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Narrow"/>
              </a:rPr>
              <a:t>تعريف محضر الاجتم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تبر المحاضر مستندات قانونية مهمة للقرارات و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ازات التي قامت بها الشرك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 المجموعة، بالإضا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وات معلومات مهم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عناصر محاضر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اجتماعات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للمحاضر ثلاثة عناصر رئيسة ه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قدمة المحض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صلب الموضو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خات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مقدمة المحضر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أتي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 مقدمة الصفحة وتحتوي على معلومات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همة عن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محض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زمن ومكان 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غراض الاجتما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سم ووظيفة رئيس الاجتما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عدد الحضور (خاصة  في الهيئات التي تتطلب اجتماعاتها اكتمال النصاب القانون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سماء الحضور وشركاتهم ووظائف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صلب المحضر </a:t>
            </a: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حتوي صلب المحضر على م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م تداوله في الاجتما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رارات التي تم اتخاذ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اقتراح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التوصيات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فضل طريقة لكتابة المحضر هو اتباع تسلسل الموضوعات كما جاءت في جدول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عمال الاجت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جدول 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عمال يمثل البنود التي سوف يتم مناقشتها في الاجتماع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قوم بتحضي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جدول الأعمال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عادة رئيس الشركة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 من يفوضه ب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في بعض الحالات يحتوي صلب المحضر على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ماء ووظائف كل الذين قدموا تقارير في الاجتماع مع تلخيص لتقارير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ماء المتحدثين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خرين مع ملخص لحديث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سجيل نتيجة التصويت اذا كان هنالك تصوي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خاتم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حتوي ع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بع معلومات مهم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زمن نهاية الاجتما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سم ووظيفة وتوقيع كاتب المحض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ذا تمت طباعة المحضر بواسطة شخص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خر يجب كتابة اسم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ض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واقيع 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عضاء الذين حضروا الاجتما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طوات وإجراءات تدوين المحاضر</a:t>
            </a:r>
            <a:r>
              <a:rPr b="1" lang="ar-JO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ضّر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جدول أعمال الاجتماع،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ساعدك في الحصول على الأفكار الرئيسية ، وبالتالي يساعدك في تنظيم نقاط المحض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بدأ بتسجيل المعلومات المهمة الخاصة بمقدمة المحضر: زمن ومكان الاجتماع ، وعدد الحضور والهدف من عقد الاجتماع الخ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كتب لكل بند عنوانه، حتى يتسنى للقارئ الوصول إلى البند الذي يريده بسهولة . يجب كتابة أي اقتراح بدقة وبنفس كلماته، ولتتمكن من عمل ذلك يمكن أن يطلب الرئيس من كل من يقدم اقتراحا أن يقوم بكتابته كامل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طوات وإجراءات تدوين المحاضر</a:t>
            </a:r>
            <a:r>
              <a:rPr b="1" lang="ar-JO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كتب النقاش الذي تم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ول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ل بند ثم القرار الذي تم اتخاذه وفي الواقع، يتم في الاجتماعات عادة عمل شيئين هما: توصيل المعلومات واتخاذ القرا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في حالة التصويت الشفهي على الاقتراحات دون عد الأصوات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مكن تدوين ذلك في المحضر بإيجاز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مت الموافقة على الاقتراح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فض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أما في حالة حساب عدد الأصوات فيجب أن يحتوي المحضر على عدد المؤيدين وعدد المعارضين والممتنعين عن التصوي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طوات وإجراءات تدوين المحاضر</a:t>
            </a:r>
            <a:r>
              <a:rPr b="1" lang="ar-JO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كتب المسودة بعد انتهاء الاجتماع </a:t>
            </a: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مباشرة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 عندما تكون ذاكرتك لا تزال قريبة العهد بالمعلوم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جب أن يكون المحضر موجزا ومناس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ً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ختم المحضر بطريقة مهنية بالكتابة المختصرة لمعلومات مهم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ثل: زمن نهاية الاجتما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س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اتب المحض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وقي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واسم طابع المحض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الفصل الرابع: إعداد المذكرات الإدراية ومحاضر الاج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ذكرات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عريف المذكر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أنواع المذكر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000" spc="-1" strike="noStrike">
                <a:solidFill>
                  <a:srgbClr val="000000"/>
                </a:solidFill>
                <a:latin typeface="Arial"/>
              </a:rPr>
              <a:t>موضوع المذك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شكل العام للمذك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000" spc="-1" strike="noStrike">
                <a:solidFill>
                  <a:srgbClr val="000000"/>
                </a:solidFill>
                <a:latin typeface="Arial"/>
              </a:rPr>
              <a:t>خصائص المذكرة الجي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حاضر الاجتماع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عريف محضر الاجتما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عناصر محاضر الاجتما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مقدمة المحض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صلب المحض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 الأسئل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abc\Desktop\UoD\Teaching\أخلاقيات العمل\photo\QM.jpg"/>
          <p:cNvPicPr/>
          <p:nvPr/>
        </p:nvPicPr>
        <p:blipFill>
          <a:blip r:embed="rId2"/>
          <a:stretch/>
        </p:blipFill>
        <p:spPr>
          <a:xfrm>
            <a:off x="3733920" y="1676520"/>
            <a:ext cx="2027160" cy="2703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الفصل الرابع: إعداد المذكرات الإدراية ومحاضر الاج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تعريف المذك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ذكرة تمثل نوعا من التقارير صغيرة الحجم ، عادة لا تتعدى صفح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 صفحتين ، وهي شائعة الاستخدام في مختلف المنشآت الحكومية والتجارية على اختلا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واعها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عادة تعد هذه المذكرات لكي ترفع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ى من يشغلون المناصب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ارية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عل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Narrow"/>
              </a:rPr>
              <a:t>أنواع المذك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واع المذك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ذكرات 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خدم إما لإيصال معلومة أو طلب معلو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ذكرات حل المشك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قترح حلول ممكنة لمشكلة ما وتكون عادة لمستويات إدارية أد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ذكرة إقناع وتحفي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خدم لحث شخص على أخذ قرار مع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ذكرة اقتراح داخ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خدم عادة لإيصال مقترحات إلى مستويات إدارية أ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موضوع المذك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المذكرات تتعامل مع عدد كبير من الموضوعات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والمستويات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 مث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توصيل معلومات لمن يشغلون المناصب ا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دارية ا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على.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وفي هذه الحالة عادة ما تنتهي المذكرة بعبارة مثل: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رجاء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التكرم بالعلم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“ أو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الرجاء الاحاطة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قد تعرض المذكرة مشكلة ويقترح كاتب هذه المذكرة حلا لها وعادة ما تنتهي هذه المذكرة بالعبارات الاتية: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رجاء التكرم بالموافقة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قد تتعرض المذكرة لموقف معين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و مشكلة معينة ويرفعها كاتبها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لى الرئيس طالبا منه التوجيه فيما يتعلق بأسلوب التعامل مع هذه الموقف او المشكلة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الشكل العام للمذك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مكن توضيح الشكل العام للمذكرة ك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سم وشعار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مقدمة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وتشمل على مرسل المذكرة والمخاطب والتاريخ والرقم والموضوع والمرفق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صلب الموضوع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أتي بعد ذلك صلب المذكرة او موضوع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مطلوب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وضح في هذا القسم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جزاء المطلوبة بناء على المعلو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الشكل العام للمذك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تحية 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وتستعمل بتعبيرات مع التحية، ودمتم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توقيع 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ويكون في الجانب الايسر من الور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صائص المذكرة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الج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جب مراعاة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ند كتابة المذكرا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ّ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 يب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كتابة المذكرة التي سيرفع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ى المستوى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اري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ع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ا بعد دراسة الموضوع دراسة وافية و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مام بجميع جوانبه وجمع كل البيانات والحقائق عن الموضو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يستخدم اللغة المناسبة 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يجعل المذكرة على قدر كاف من التوضيح بالنسبة للأفكار التي تتضم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يستخدم في المذكرة الشائع من الكل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صائص المذكرة الج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يفصل كاتب المذكرة 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ه الشخصي بالنسبة للمسائل التي تعرضها المذكرة عن الحقائق والمعلومات التي تتضمنها المذك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تكون المذكرة خالية من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خطاء النحوية و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ل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تقدم المذكرة في وقت مناسب من حيث الزمان والمكان للجهة المقدمة لها حتى يتعامل مع ما يرد فيها بمنطقية ومهن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9:22:36Z</dcterms:created>
  <dc:creator>abc</dc:creator>
  <dc:description/>
  <dc:language>en-US</dc:language>
  <cp:lastModifiedBy>abc</cp:lastModifiedBy>
  <dcterms:modified xsi:type="dcterms:W3CDTF">2012-05-26T20:19:56Z</dcterms:modified>
  <cp:revision>27</cp:revision>
  <dc:subject/>
  <dc:title>الفصل الثاني عشر</dc:title>
</cp:coreProperties>
</file>